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288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500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56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500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556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440" y="273600"/>
            <a:ext cx="92595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87000" cy="6867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395280" y="304920"/>
            <a:ext cx="882720" cy="154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daptivepath.com/publications/essays/archives/000385.php" TargetMode="External"/><Relationship Id="rId2" Type="http://schemas.openxmlformats.org/officeDocument/2006/relationships/hyperlink" Target="http://www.adaptivepath.com/publications/essays/archives/000385.php" TargetMode="External"/><Relationship Id="rId3" Type="http://schemas.openxmlformats.org/officeDocument/2006/relationships/hyperlink" Target="http://www.adaptivepath.com/publications/essays/archives/000385.php" TargetMode="External"/><Relationship Id="rId4" Type="http://schemas.openxmlformats.org/officeDocument/2006/relationships/hyperlink" Target="http://www.adaptivepath.com/publications/essays/archives/000385.php" TargetMode="External"/><Relationship Id="rId5" Type="http://schemas.openxmlformats.org/officeDocument/2006/relationships/hyperlink" Target="http://www.adaptivepath.com/publications/essays/archives/000385.php" TargetMode="External"/><Relationship Id="rId6" Type="http://schemas.openxmlformats.org/officeDocument/2006/relationships/hyperlink" Target="http://www.adaptivepath.com/publications/essays/archives/000385.php" TargetMode="External"/><Relationship Id="rId7" Type="http://schemas.openxmlformats.org/officeDocument/2006/relationships/hyperlink" Target="http://www.adaptivepath.com/publications/essays/archives/000385.php" TargetMode="External"/><Relationship Id="rId8" Type="http://schemas.openxmlformats.org/officeDocument/2006/relationships/hyperlink" Target="http://www.adaptivepath.com/publications/essays/archives/000385.php" TargetMode="External"/><Relationship Id="rId9" Type="http://schemas.openxmlformats.org/officeDocument/2006/relationships/hyperlink" Target="http://www.adaptivepath.com/publications/essays/archives/000385.php" TargetMode="External"/><Relationship Id="rId10" Type="http://schemas.openxmlformats.org/officeDocument/2006/relationships/hyperlink" Target="http://www.adaptivepath.com/publications/essays/archives/000385.php" TargetMode="External"/><Relationship Id="rId11" Type="http://schemas.openxmlformats.org/officeDocument/2006/relationships/hyperlink" Target="http://www.adaptivepath.com/publications/essays/archives/000385.php" TargetMode="External"/><Relationship Id="rId12" Type="http://schemas.openxmlformats.org/officeDocument/2006/relationships/hyperlink" Target="http://www.adaptivepath.com/publications/essays/archives/000385.php" TargetMode="External"/><Relationship Id="rId13" Type="http://schemas.openxmlformats.org/officeDocument/2006/relationships/hyperlink" Target="http://www.adaptivepath.com/publications/essays/archives/000385.php" TargetMode="External"/><Relationship Id="rId14" Type="http://schemas.openxmlformats.org/officeDocument/2006/relationships/hyperlink" Target="http://www.adaptivepath.com/publications/essays/archives/000385.php" TargetMode="External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8762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 bidezko programazioa praktikaren bitartez:</a:t>
            </a:r>
            <a:br>
              <a:rPr sz="4400"/>
            </a:b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Igor Letur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lhuyar Fundazioa - I+G sai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UEU 2007/07/18-1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Ikastaroaren programazio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Programazio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HTML – XHTML – CSS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ML – D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JavaScri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Praktikak: JavaScript – DOM – C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MLHttpRequest objektu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Praktikak: AJAX sinpl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JAX aurreratu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Praktikak: AJAX aurreratu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maitzek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Ikastaroaren programazio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Praktik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JavaScript – DOM – CS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Lokale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Fitxategi bakarre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Nik HTML eredua eman, zuek osatu HTML-a, JavaScript-a eta CSS-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JA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Nik HTML eredua eman, zuek osatu HTML-a, JavaScript-a eta dei asinkronoaren script-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Dei asinkronoentzat bi zerbitzari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PH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AS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Besteek zuek daukazuen zerbitzariren bat erabili edo dei asinkronoak nik prestatu ditudan script-ei eg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Zer den AJA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Ikastaroaren programazio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Zer den AJAX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u-ES" sz="2400" spc="-1" strike="noStrike">
                <a:solidFill>
                  <a:srgbClr val="000000"/>
                </a:solidFill>
                <a:latin typeface="Verdana"/>
              </a:rPr>
              <a:t>Asynchronous Javascript And X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2005ean Jesse James Garrett-ek asmatutako terminoa (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www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adaptivepath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com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publications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essays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archives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/000385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4"/>
              </a:rPr>
              <a:t>php</a:t>
            </a: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Web aplikazio elkarreragileak, mahai gaineko aplikazioen antzekoagoak, garatzeko tekn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Zer den AJAX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Aldiro web orri osoa transferitu beharrean, orriaren zatiak alda daitezke erabiltzailearen ekintzen arab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Zerbitzariaren eta bezeroaren arteko datu-transferentziak atzeko planoan eta modu-asinkrono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Jaitsi beharreko datu-kopurua jaisten da, benetan erabiltzaileak une bakoitzean behar duena soilik jaitsi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8458200" cy="68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Zer den AJAX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Adibideak: Gmail, Flickr, Google Maps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Euskal Herrian: Zabaldu, Tagzania, ZTCorpusa, CorpEus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Zer den AJAX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AJAX ez da teknologia berri bat, lehendik dauden teknologien konbinazio bat d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Zerbitzariaren aldeko programazioa (PHP, ASP, Zope, Perl, Python..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HTML - X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C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D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JavaScri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MLHttpRequest objektu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Ikastaroaren programazio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17 ikasleen profil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Ia denak web guneren bat egindakoak (1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Gehienak web gune dinamikoak egindakoak (1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8 PHP, 3 ASP, 3 bestelako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Gehienek JavaScript zerbait erabili dute (1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Gehienek XML ezagutzen dute (1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Ia erdiek DOM ezagutzen dute (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JAX-i buruz zerbait gehienek dakite (1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JAX zerbait erabili gutxik (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6k oinarrizko ikastaroa nahi dute, 2k aurreratua, besteek oinarrizkotik hasi eta aurrera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9:43:12Z</dcterms:created>
  <dc:creator>...</dc:creator>
  <dc:description/>
  <dc:language>en-US</dc:language>
  <cp:lastModifiedBy>Igor Leturia</cp:lastModifiedBy>
  <dcterms:modified xsi:type="dcterms:W3CDTF">2007-07-17T17:22:17Z</dcterms:modified>
  <cp:revision>462</cp:revision>
  <dc:subject/>
  <dc:title>Presentación de PowerPoint</dc:title>
</cp:coreProperties>
</file>